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0185-5C3E-4A7B-B96C-BB01B40C81FD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F4E6-F784-48AD-AF9C-67FDC7039A7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12AC-787F-490E-B7C7-C0617F7BC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6138-CFE7-423F-A1CA-A906788CA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C69C-9CAE-4811-ADAC-EF9EE3A5321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4E4F-301E-4BCE-9C67-D7B97235351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0BBC-19C4-45B0-BC0F-0D851722387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1EFE-A815-4C95-8032-F58086900B7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42AD-3970-4A6E-92BB-1E19202A762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FA79-BB58-48D1-8C21-5E908E78C02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B120-9576-4861-975B-F461E594AA9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rāta vē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C1DC-04D3-4AAC-949A-9AC33D52F96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D639-CABF-45E8-9F2D-AB8D631EE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40D4-7AC3-4DEA-8CF6-5EE34851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F1BD-3C38-41ED-9214-1AF30F31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68B2-971F-46F8-8570-2F93A9CE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3277-06BA-4208-9163-7F7F8CF77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188D-2D95-4631-9F9C-F264562EC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1B2F-72CF-47D0-8464-EA122D6F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CBE0-4835-4868-B501-48505B4D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C2E7-30B9-4ED1-B35A-A94FA201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4A68-3CE1-4BBF-8147-6DCEDDE2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12C4-53E6-4F9E-9395-D5C18641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2D90-25EB-48ED-9977-76003C40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CD18-0016-4C54-A8F4-806C3718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CCA2-BF34-49AB-8A55-B783FE5D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DCF7-20E2-4481-B6EB-20EB625F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8EAB-4DF5-471A-BD70-999262A1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A465-B16A-498B-AC55-9F6B6B60F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FD4D-85D1-4DB2-B75E-C793DB961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674D-A00F-43AC-926F-126921DC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01A4-0171-44F3-850F-372958F8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F9E3-462B-4DF3-B190-D8D467BD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9CAE-9ED8-4C1D-8B21-B743F94D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1E3C-FC29-429E-8F6F-62B66869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642C-CC9F-4ADC-8E32-D335FD22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A9E2-67AD-46D0-942A-D2D15944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0177-15C1-4F08-A64C-AF4D03263B9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2300-8211-4B1A-96A6-15CFE1B7647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5.-7.klašu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vienveidīgus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58920" y="1700280"/>
          <a:ext cx="6769080" cy="1677960"/>
        </p:xfrm>
        <a:graphic>
          <a:graphicData uri="http://schemas.openxmlformats.org/drawingml/2006/table">
            <a:tbl>
              <a:tblPr/>
              <a:tblGrid>
                <a:gridCol w="3589200"/>
                <a:gridCol w="3179880"/>
              </a:tblGrid>
              <a:tr h="121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/uzdevum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patī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SMJU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06320" y="1700280"/>
          <a:ext cx="7993080" cy="1555560"/>
        </p:xfrm>
        <a:graphic>
          <a:graphicData uri="http://schemas.openxmlformats.org/drawingml/2006/table">
            <a:tbl>
              <a:tblPr/>
              <a:tblGrid>
                <a:gridCol w="3218040"/>
                <a:gridCol w="2327040"/>
                <a:gridCol w="2448000"/>
              </a:tblGrid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/uzdevum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patī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</a:t>
                      </a: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dod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71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400" spc="-1" strike="noStrike">
                <a:solidFill>
                  <a:srgbClr val="800080"/>
                </a:solidFill>
                <a:latin typeface="Calibri"/>
              </a:rPr>
              <a:t>KĀDĀS PROFESIJĀS NEPIECIEŠAMAS MANAS STIPRĀS PUSES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50920" y="1844640"/>
          <a:ext cx="8713800" cy="189072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94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stiprās p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fesijas, kurās tās nepiecieša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ešvalodu zināšan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lks, tulkotājs, skolotājs, diplomāts, gids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Dažādu materiālu sagatavošana, kam nepieciešama informācijas vākšana un atlase, kā arī secinājumu izdarī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Mūsdienu informācijas tehnoloģiju izmanto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0920" y="1700280"/>
          <a:ext cx="8640720" cy="2927160"/>
        </p:xfrm>
        <a:graphic>
          <a:graphicData uri="http://schemas.openxmlformats.org/drawingml/2006/table">
            <a:tbl>
              <a:tblPr/>
              <a:tblGrid>
                <a:gridCol w="2879640"/>
                <a:gridCol w="3600360"/>
                <a:gridCol w="21607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stiprās pu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164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bs ar dato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1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5260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6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intereses un stiprās puses saistās ar profesijā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6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inātnisko projek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8:19:39Z</dcterms:modified>
  <cp:revision>345</cp:revision>
  <dc:subject/>
  <dc:title>Slide 1</dc:title>
</cp:coreProperties>
</file>